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8BB-9206-4A35-B349-32056EDA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623-CA5A-4382-A704-EDA50CFC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AEA-3C13-4F26-B673-681FB834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32E-F3B9-4F0C-8379-7D046F2E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0D9-4933-4A77-B1F4-E84092A6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9CB-22C1-4C4B-8692-2CA2EE7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657-04A3-40DF-8210-15897648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B87-AB91-4D66-A38A-974416F9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8EF-0505-4E45-8827-E4DEF69E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114-A000-4542-AFB3-1F19F8F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844-B24F-4FE1-A6C6-C95A385C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E81-41FC-44EE-B66D-8FA3601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14DB-736F-4E8C-A5A1-396C2CC42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825800" cy="4105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111640" y="2852640"/>
            <a:ext cx="403236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50920" y="333360"/>
            <a:ext cx="8713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ntynenty i Oceany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70580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tlantyc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tlantycki (Atlantyk) – drugi pod względem wielkości ocean na Ziemi pokrywający około jednej piątej jej powierzchni. Nazwa wywodzi się z mitologii greckiej i oznacza "Morze Atlasa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174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Indyj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Indyjski (Indyk ) – trzeci pod względem wielkości zbiornik wodny na świecie, zajmujący około 20% powierzchni Wszechoceanu. Oficjalna polska nazwa tego oceanu, zatwierdzona przez Komisję Standaryzacji Nazw Geograficznych brzmi Ocean Indyjs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141300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rktycz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rktyczny (także: Morze Arktyczne, Morze Lodowate, Ocean Lodowaty Północny) – najmniejszy i najpłytszy, a być może również najmłodszy ocean na Ziemi, uznawany dawniej za część Oceanu Atlantycki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594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Południ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Południowy (także: Południowy Ocean Lodowaty, Ocean Antarktyczny) – ocean rozciągający się od wybrzeża Antarktydy do równoleżnika 60°S, wzdłuż którego łączy się z oceanami: Spokojnym, Indyjskim i Atlantyck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95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Spokoj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41860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cean Spokojny, Pacyfik, Ocean Wielki – największy, najgłębszy i najstarszy, obok Atlantyku, na świecie zbiornik wodny. Z powierzchnią równą 178,7 mln km² zajmuje jedną trzecią całej Ziemi. Oficjalna polska nazwa tego oceanu, zatwierdzona przez Komisję Standaryzacji Nazw Geograficznych brzmi Ocean Spokoj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249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szech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szechocean (Ocean światowy) – ogólne określenie całości wód morskich na powierzchni Ziemi, tj. oceanów i wchodzących w ich skład mórz; główna część hydrosf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10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ontyn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fry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2530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ryka – drugi pod względem wielkości kontynent na Ziemi. Ma 30,37 mln km² powierzchni, czyli ponad 20,3% ogólnej powierzchni lądowej naszego globu. Przechodzi przez niego południk 0°, obydwa zwrotniki i równ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lik:Africa satellite plane.jpg"/>
          <p:cNvPicPr/>
          <p:nvPr/>
        </p:nvPicPr>
        <p:blipFill>
          <a:blip r:embed="rId2"/>
          <a:stretch/>
        </p:blipFill>
        <p:spPr>
          <a:xfrm>
            <a:off x="2916360" y="1989000"/>
            <a:ext cx="3787560" cy="446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lik:Ébreszt&amp;odblac;.jpg"/>
          <p:cNvPicPr/>
          <p:nvPr/>
        </p:nvPicPr>
        <p:blipFill>
          <a:blip r:embed="rId3"/>
          <a:stretch/>
        </p:blipFill>
        <p:spPr>
          <a:xfrm>
            <a:off x="6877080" y="227664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lik:SudanRegionGambia.jpg"/>
          <p:cNvPicPr/>
          <p:nvPr/>
        </p:nvPicPr>
        <p:blipFill>
          <a:blip r:embed="rId4"/>
          <a:stretch/>
        </p:blipFill>
        <p:spPr>
          <a:xfrm>
            <a:off x="6877080" y="4365720"/>
            <a:ext cx="2147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2819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uropa – część świata (określana zwykle tradycyjnym, acz nieścisłym mianem kontynentu), leżąca na półkuli północnej, na pograniczu półkuli wschodniej i zachodniej, stanowiąca wraz z Azją kontynent Eurazję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Plik:Europe satellite orthographic.jpg"/>
          <p:cNvPicPr/>
          <p:nvPr/>
        </p:nvPicPr>
        <p:blipFill>
          <a:blip r:embed="rId2"/>
          <a:stretch/>
        </p:blipFill>
        <p:spPr>
          <a:xfrm>
            <a:off x="2556000" y="2637000"/>
            <a:ext cx="4392360" cy="356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lik:Mont Blanc.JPG"/>
          <p:cNvPicPr/>
          <p:nvPr/>
        </p:nvPicPr>
        <p:blipFill>
          <a:blip r:embed="rId3"/>
          <a:stretch/>
        </p:blipFill>
        <p:spPr>
          <a:xfrm>
            <a:off x="7093080" y="2637000"/>
            <a:ext cx="19303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Plik:Erinaceus europaeus (Marek Szczepanek).jpg"/>
          <p:cNvPicPr/>
          <p:nvPr/>
        </p:nvPicPr>
        <p:blipFill>
          <a:blip r:embed="rId4"/>
          <a:stretch/>
        </p:blipFill>
        <p:spPr>
          <a:xfrm>
            <a:off x="7093080" y="4508640"/>
            <a:ext cx="19429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260208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stralia (Związek Australijski, Commonwealth of Australia) – państwo położone na półkuli południowej, obejmujące najmniejszy kontynent świata, wyspę Tasmanię i inne znacznie mniejsze wyspy na Oceanie Indyjskim i Spokojny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lik:Australia satellite plane.jpg"/>
          <p:cNvPicPr/>
          <p:nvPr/>
        </p:nvPicPr>
        <p:blipFill>
          <a:blip r:embed="rId2"/>
          <a:stretch/>
        </p:blipFill>
        <p:spPr>
          <a:xfrm>
            <a:off x="2700360" y="2781360"/>
            <a:ext cx="4351320" cy="358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lik:Macropus rufus.jpg"/>
          <p:cNvPicPr/>
          <p:nvPr/>
        </p:nvPicPr>
        <p:blipFill>
          <a:blip r:embed="rId3"/>
          <a:stretch/>
        </p:blipFill>
        <p:spPr>
          <a:xfrm>
            <a:off x="7236000" y="278136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lik:Sydney opera house and skyline.jpg"/>
          <p:cNvPicPr/>
          <p:nvPr/>
        </p:nvPicPr>
        <p:blipFill>
          <a:blip r:embed="rId4"/>
          <a:stretch/>
        </p:blipFill>
        <p:spPr>
          <a:xfrm>
            <a:off x="7236000" y="4724280"/>
            <a:ext cx="17874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z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4103640" cy="3889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2746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zja (gr. Ἀσία Asía, łac. Asia) – część świata, razem z Europą tworząca Eurazję, największy kontynent na Ziemi. Z powodów historycznych i kulturowych sama Azja bywa również nazywana kontynentem (zob. alternatywne listy kontynentów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Panda wielka (Ocean Park, Hongkong)"/>
          <p:cNvPicPr/>
          <p:nvPr/>
        </p:nvPicPr>
        <p:blipFill>
          <a:blip r:embed="rId3"/>
          <a:stretch/>
        </p:blipFill>
        <p:spPr>
          <a:xfrm>
            <a:off x="6948360" y="2637000"/>
            <a:ext cx="207036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948360" y="4581360"/>
            <a:ext cx="2079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ołudni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386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ołudniowa – kontynent leżący na półkuli zachodniej oraz w większej części na półkuli południowej, a w mniejszej – na półkuli północnej. Niekiedy uważana jest również za subkontynent Amery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331308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948360" y="1773360"/>
            <a:ext cx="2095560" cy="216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48360" y="4221000"/>
            <a:ext cx="2116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ółnoc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26017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ółnocna – kontynent o powierzchni 24 242 000 km² (co stanowi 16,3% całkowitej powierzchni lądów na kuli ziemskiej), położony na półkulach: północnej i zachodniej. Do Ameryki Północnej należy Ameryka Środkow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4145040" cy="4464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020000" y="2205000"/>
            <a:ext cx="200664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04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tarkty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44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tarktyda – kontynent o powierzchni około 14,0 mln km², znajdujący się na półkuli południowej Ziemi, prawie w całości w strefie podbiegunowej. Większa część kontynentu pokryta jest polarną czapą lodową, jest on praktycznie niezamieszkany przez ludzi, nie licząc personelu 37 stacji badawczy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4248000" cy="403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02000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1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6:04:46Z</dcterms:created>
  <dc:creator>MICRON</dc:creator>
  <dc:description/>
  <dc:language>en-US</dc:language>
  <cp:lastModifiedBy>MICRON</cp:lastModifiedBy>
  <dcterms:modified xsi:type="dcterms:W3CDTF">2013-02-14T16:33:16Z</dcterms:modified>
  <cp:revision>2</cp:revision>
  <dc:subject/>
  <dc:title>Kontynenty i Oceany</dc:title>
</cp:coreProperties>
</file>